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8.jpeg" ContentType="image/jpeg"/>
  <Override PartName="/ppt/media/chimes.wav" ContentType="audio/x-wav"/>
  <Override PartName="/ppt/media/image13.gif" ContentType="image/gif"/>
  <Override PartName="/ppt/media/image28.png" ContentType="image/png"/>
  <Override PartName="/ppt/media/image7.jpeg" ContentType="image/jpeg"/>
  <Override PartName="/ppt/media/image5.png" ContentType="image/png"/>
  <Override PartName="/ppt/media/applause.wav" ContentType="audio/x-wav"/>
  <Override PartName="/ppt/media/image27.jpeg" ContentType="image/jpeg"/>
  <Override PartName="/ppt/media/image9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.png" ContentType="image/png"/>
  <Override PartName="/ppt/media/suction.wav" ContentType="audio/x-wav"/>
  <Override PartName="/ppt/media/image16.jpeg" ContentType="image/jpeg"/>
  <Override PartName="/ppt/media/laser.wav" ContentType="audio/x-wav"/>
  <Override PartName="/ppt/media/image3.jpeg" ContentType="image/jpeg"/>
  <Override PartName="/ppt/media/image1.jpeg" ContentType="image/jpeg"/>
  <Override PartName="/ppt/media/image12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type.wav" ContentType="audio/x-wav"/>
  <Override PartName="/ppt/media/image10.jpeg" ContentType="image/jpeg"/>
  <Override PartName="/ppt/media/image14.png" ContentType="image/png"/>
  <Override PartName="/ppt/media/image15.jpeg" ContentType="image/jpeg"/>
  <Override PartName="/ppt/media/image25.png" ContentType="image/png"/>
  <Override PartName="/ppt/media/image19.jpeg" ContentType="image/jpe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EF2-062A-4F33-A0B2-9F01C32D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11B-85ED-4C2F-897F-7F0469D7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390-9AB7-48A3-8D95-0B601414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900-2C73-4FA2-B5A8-2B228463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A8B1-D2C2-4A46-957F-1F188A43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C273-7711-4951-AB18-C3AEB8F9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E1D0-2747-464F-BD9D-D284F271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5124-6333-4C3F-86E1-FD71ACD1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75D0-EE7B-420A-8FBD-1121FEFC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E251-4BCE-4C89-BEBE-E651A721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ABCA-2A03-4300-AC38-781FF6A1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F78-C8FB-4192-A981-0945FD7E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373F-A936-4C63-A876-2CEECCBF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1300-834D-49C4-9B97-8D5C7822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DF41-B73D-49D7-919F-9808FDDD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EF2F-FAC8-4E8F-A2B4-509D9805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9567-AD6B-4B64-BCC5-0860F40A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0B93-DF1B-431A-9FFF-85612B9E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7DB6-73EC-45BA-B7EC-9312A2E3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0518-3413-4FF4-AE6E-26D3F0B0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7A8DF-6CF0-449D-AEB6-E5E8BD64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EBF8-435D-4097-9285-B564C82A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21E-23CE-4684-9CBF-BBDDA8EB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262A-1039-4495-8ECF-0B045809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4F44-7670-4D33-8EF6-C14ADCE8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F875-64BE-4B12-A3F4-14C85A6C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58C9-BBDA-4658-B85E-EB6BAA40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150F-D428-451B-9B08-C5474FF6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FF6A-C123-4E22-8FDE-4989DD27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CFA2-8F77-4C64-AA63-ED8A27E6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08D-238C-43E6-8FD1-A2C664DC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2C2-A9D1-46EC-87E8-10C510F1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4E7-5F87-49CA-9EAA-F7C8D2C6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483-5C71-4A49-82CC-DA0C5DC9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4E9-CE64-4592-B94C-02DF9B2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569-4808-4720-A3CF-9EB39BA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88F7-5D39-4D91-A10D-54055FFE38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0" y="5867280"/>
            <a:ext cx="185436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94A9-2EB3-413E-9C5C-B9B87EA351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6351-313D-4AB2-8C85-81C41C10C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2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4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5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13.gi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foodsubs.com/Photos/pineapple.jpg&amp;imgrefurl=http://www.foodsubs.com/Fruittro.html&amp;h=925&amp;w=505&amp;sz=16&amp;tbnid=npcrWqaBtSgJ:&amp;tbnh=145&amp;tbnw=79&amp;start=8&amp;prev=/images%3Fq%3Dpineapple%26hl%3Dzh-CN%26lr%3D%26ie%3DUTF-8%26inlang%3Dzh-CN%26newwindow%3D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gif"/><Relationship Id="rId6" Type="http://schemas.openxmlformats.org/officeDocument/2006/relationships/audio" Target="../media/suction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2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4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5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xin_133070616113892119974"/>
          <p:cNvPicPr/>
          <p:nvPr/>
        </p:nvPicPr>
        <p:blipFill>
          <a:blip r:embed="rId1"/>
          <a:stretch/>
        </p:blipFill>
        <p:spPr>
          <a:xfrm>
            <a:off x="5715000" y="3276720"/>
            <a:ext cx="2381400" cy="31716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"/>
          <p:cNvSpPr/>
          <p:nvPr/>
        </p:nvSpPr>
        <p:spPr>
          <a:xfrm>
            <a:off x="1066680" y="1219320"/>
            <a:ext cx="7239240" cy="2057400"/>
          </a:xfrm>
          <a:prstGeom prst="cloudCallout">
            <a:avLst>
              <a:gd name="adj1" fmla="val -25791"/>
              <a:gd name="adj2" fmla="val 97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Unit 7   Frui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895480" y="22860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sson 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it a pear?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133720" y="380880"/>
            <a:ext cx="40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sweet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甜的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3" descr="grape"/>
          <p:cNvPicPr/>
          <p:nvPr/>
        </p:nvPicPr>
        <p:blipFill>
          <a:blip r:embed="rId1"/>
          <a:srcRect l="0" t="0" r="0" b="6911"/>
          <a:stretch/>
        </p:blipFill>
        <p:spPr>
          <a:xfrm>
            <a:off x="304920" y="1981080"/>
            <a:ext cx="1260360" cy="1446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oconut"/>
          <p:cNvPicPr/>
          <p:nvPr/>
        </p:nvPicPr>
        <p:blipFill>
          <a:blip r:embed="rId2"/>
          <a:stretch/>
        </p:blipFill>
        <p:spPr>
          <a:xfrm>
            <a:off x="250920" y="5535720"/>
            <a:ext cx="1944720" cy="132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mango-1"/>
          <p:cNvPicPr/>
          <p:nvPr/>
        </p:nvPicPr>
        <p:blipFill>
          <a:blip r:embed="rId3"/>
          <a:stretch/>
        </p:blipFill>
        <p:spPr>
          <a:xfrm>
            <a:off x="228600" y="3581280"/>
            <a:ext cx="1657440" cy="154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Object 6"/>
          <p:cNvGraphicFramePr/>
          <p:nvPr/>
        </p:nvGraphicFramePr>
        <p:xfrm>
          <a:off x="2286000" y="5257800"/>
          <a:ext cx="1584360" cy="15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257800"/>
                    <a:ext cx="15843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7"/>
          <p:cNvGraphicFramePr/>
          <p:nvPr/>
        </p:nvGraphicFramePr>
        <p:xfrm>
          <a:off x="5638680" y="4876920"/>
          <a:ext cx="1729080" cy="171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38680" y="4876920"/>
                    <a:ext cx="1729080" cy="17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8"/>
          <p:cNvGraphicFramePr/>
          <p:nvPr/>
        </p:nvGraphicFramePr>
        <p:xfrm>
          <a:off x="3581280" y="2743200"/>
          <a:ext cx="1595520" cy="185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81280" y="2743200"/>
                    <a:ext cx="159552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9"/>
          <p:cNvGraphicFramePr/>
          <p:nvPr/>
        </p:nvGraphicFramePr>
        <p:xfrm>
          <a:off x="6324480" y="533520"/>
          <a:ext cx="1428840" cy="148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24480" y="533520"/>
                    <a:ext cx="142884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0"/>
          <p:cNvGraphicFramePr/>
          <p:nvPr/>
        </p:nvGraphicFramePr>
        <p:xfrm>
          <a:off x="6934320" y="2743200"/>
          <a:ext cx="1458720" cy="1557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934320" y="2743200"/>
                    <a:ext cx="145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dice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838080" y="213372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Comic Sans MS"/>
              </a:rPr>
              <a:t>Which fruit are sour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</a:rPr>
              <a:t>那些水果是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酸</a:t>
            </a:r>
            <a:r>
              <a:rPr b="0" lang="zh-CN" sz="5400" spc="-1" strike="noStrike">
                <a:solidFill>
                  <a:srgbClr val="ff0000"/>
                </a:solidFill>
                <a:latin typeface="Comic Sans MS"/>
              </a:rPr>
              <a:t>的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908000" y="533520"/>
            <a:ext cx="15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sour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酸的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5257800" y="380880"/>
          <a:ext cx="2286000" cy="21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80880"/>
                    <a:ext cx="2286000" cy="21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4"/>
          <p:cNvGraphicFramePr/>
          <p:nvPr/>
        </p:nvGraphicFramePr>
        <p:xfrm>
          <a:off x="3659040" y="3352680"/>
          <a:ext cx="228456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3352680"/>
                    <a:ext cx="2284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Picture 5" descr="gif034"/>
          <p:cNvPicPr/>
          <p:nvPr/>
        </p:nvPicPr>
        <p:blipFill>
          <a:blip r:embed="rId5"/>
          <a:stretch/>
        </p:blipFill>
        <p:spPr>
          <a:xfrm>
            <a:off x="304920" y="2895480"/>
            <a:ext cx="411300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Object 6"/>
          <p:cNvGraphicFramePr/>
          <p:nvPr/>
        </p:nvGraphicFramePr>
        <p:xfrm>
          <a:off x="6858000" y="3124080"/>
          <a:ext cx="1676520" cy="281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3124080"/>
                    <a:ext cx="1676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29600" y="4191120"/>
            <a:ext cx="890712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0000"/>
                </a:solidFill>
                <a:latin typeface="Comic Sans MS"/>
              </a:rPr>
              <a:t>Eat more fruit. It will do you good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Comic Sans MS"/>
              </a:rPr>
              <a:t>多吃水果，身体棒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3" descr="20087281658497243"/>
          <p:cNvPicPr/>
          <p:nvPr/>
        </p:nvPicPr>
        <p:blipFill>
          <a:blip r:embed="rId1"/>
          <a:srcRect l="0" t="0" r="0" b="5192"/>
          <a:stretch/>
        </p:blipFill>
        <p:spPr>
          <a:xfrm>
            <a:off x="914400" y="304920"/>
            <a:ext cx="6446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What’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53920" y="1066680"/>
            <a:ext cx="33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guess~~~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5" descr="20087281658497243"/>
          <p:cNvPicPr/>
          <p:nvPr/>
        </p:nvPicPr>
        <p:blipFill>
          <a:blip r:embed="rId1"/>
          <a:srcRect l="0" t="0" r="0" b="5192"/>
          <a:stretch/>
        </p:blipFill>
        <p:spPr>
          <a:xfrm>
            <a:off x="990720" y="3200400"/>
            <a:ext cx="4802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04920" y="762120"/>
            <a:ext cx="8534160" cy="5031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1.hat         2.banana             3.apple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Comic Sans MS"/>
              </a:rPr>
              <a:t>4.strawberry    5. Pear     6.pea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7.lemon     8.orange      9.watermel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10.egg          11.nu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12.kiwi fruit        13.jeep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cccc00"/>
                </a:solidFill>
                <a:latin typeface="Comic Sans MS"/>
              </a:rPr>
              <a:t>14.pineapple    15.car      16.pencil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17.pen           18.compu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19. ball      20. ruler      21.eraser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22.boo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2"/>
          <p:cNvSpPr txBox="1"/>
          <p:nvPr/>
        </p:nvSpPr>
        <p:spPr>
          <a:xfrm>
            <a:off x="3048120" y="1219320"/>
            <a:ext cx="3619440" cy="22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Baskerville Old Face"/>
              </a:rPr>
              <a:t>See you !</a:t>
            </a:r>
            <a:endParaRPr b="1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346_77521"/>
          <p:cNvPicPr/>
          <p:nvPr/>
        </p:nvPicPr>
        <p:blipFill>
          <a:blip r:embed="rId1"/>
          <a:stretch/>
        </p:blipFill>
        <p:spPr>
          <a:xfrm>
            <a:off x="228600" y="228600"/>
            <a:ext cx="579132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609920" y="1371600"/>
            <a:ext cx="74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cc00"/>
                </a:solidFill>
                <a:latin typeface="Comic Sans MS"/>
              </a:rPr>
              <a:t>Wow! a lot of </a:t>
            </a:r>
            <a:r>
              <a:rPr b="0" lang="zh-CN" sz="6600" spc="-1" strike="noStrike">
                <a:solidFill>
                  <a:srgbClr val="ff0000"/>
                </a:solidFill>
                <a:latin typeface="Comic Sans MS"/>
              </a:rPr>
              <a:t>fruit</a:t>
            </a:r>
            <a:r>
              <a:rPr b="0" lang="zh-CN" sz="6600" spc="-1" strike="noStrike">
                <a:solidFill>
                  <a:srgbClr val="cccc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7040" y="304920"/>
            <a:ext cx="28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a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ang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96920" y="76320"/>
            <a:ext cx="37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cccc00"/>
                </a:solidFill>
                <a:latin typeface="Arial"/>
              </a:rPr>
              <a:t>ineapp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4" descr="xs03gif595"/>
          <p:cNvPicPr/>
          <p:nvPr/>
        </p:nvPicPr>
        <p:blipFill>
          <a:blip r:embed="rId1"/>
          <a:stretch/>
        </p:blipFill>
        <p:spPr>
          <a:xfrm>
            <a:off x="3048120" y="4572000"/>
            <a:ext cx="2157120" cy="215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0008"/>
          <p:cNvPicPr/>
          <p:nvPr/>
        </p:nvPicPr>
        <p:blipFill>
          <a:blip r:embed="rId2"/>
          <a:stretch/>
        </p:blipFill>
        <p:spPr>
          <a:xfrm>
            <a:off x="611280" y="4797360"/>
            <a:ext cx="1595520" cy="157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2668320" y="3657600"/>
            <a:ext cx="42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termel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440" y="357336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cc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ff66cc"/>
                </a:solidFill>
                <a:latin typeface="Arial"/>
              </a:rPr>
              <a:t>eac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8" descr="pineapp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990720"/>
            <a:ext cx="1419120" cy="2604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7011000" y="2286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a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ea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11" descr="0019"/>
          <p:cNvPicPr/>
          <p:nvPr/>
        </p:nvPicPr>
        <p:blipFill>
          <a:blip r:embed="rId5"/>
          <a:stretch/>
        </p:blipFill>
        <p:spPr>
          <a:xfrm>
            <a:off x="5943600" y="1066680"/>
            <a:ext cx="2408400" cy="2616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6"/>
          <a:stretch/>
        </p:blipFill>
        <p:spPr>
          <a:xfrm>
            <a:off x="304920" y="1523880"/>
            <a:ext cx="2714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9640" y="1844640"/>
            <a:ext cx="763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320" y="6094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</a:rPr>
              <a:t>Find out more frui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</a:rPr>
              <a:t>from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Page 4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009"/>
          <p:cNvPicPr/>
          <p:nvPr/>
        </p:nvPicPr>
        <p:blipFill>
          <a:blip r:embed="rId1"/>
          <a:stretch/>
        </p:blipFill>
        <p:spPr>
          <a:xfrm>
            <a:off x="1332000" y="1197000"/>
            <a:ext cx="1817640" cy="213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0024"/>
          <p:cNvPicPr/>
          <p:nvPr/>
        </p:nvPicPr>
        <p:blipFill>
          <a:blip r:embed="rId2"/>
          <a:stretch/>
        </p:blipFill>
        <p:spPr>
          <a:xfrm>
            <a:off x="611280" y="4221000"/>
            <a:ext cx="2368440" cy="2347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252360" y="0"/>
            <a:ext cx="39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cc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5400" spc="-1" strike="noStrike">
                <a:solidFill>
                  <a:srgbClr val="ff66cc"/>
                </a:solidFill>
                <a:latin typeface="Arial"/>
              </a:rPr>
              <a:t>trawberr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220360" y="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cc00"/>
                </a:solidFill>
                <a:latin typeface="Arial"/>
              </a:rPr>
              <a:t>a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zh-CN" sz="5400" spc="-1" strike="noStrike">
                <a:solidFill>
                  <a:srgbClr val="99cc00"/>
                </a:solidFill>
                <a:latin typeface="Arial"/>
              </a:rPr>
              <a:t>em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70160" y="3284640"/>
            <a:ext cx="326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rang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149800" y="3573360"/>
            <a:ext cx="30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cccc00"/>
                </a:solidFill>
                <a:latin typeface="Arial"/>
              </a:rPr>
              <a:t>anan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5791320" y="4572000"/>
          <a:ext cx="1584360" cy="17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572000"/>
                    <a:ext cx="158436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9" descr="gif034"/>
          <p:cNvPicPr/>
          <p:nvPr/>
        </p:nvPicPr>
        <p:blipFill>
          <a:blip r:embed="rId5"/>
          <a:stretch/>
        </p:blipFill>
        <p:spPr>
          <a:xfrm>
            <a:off x="5334120" y="1219320"/>
            <a:ext cx="30686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252360" y="0"/>
            <a:ext cx="17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u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439000" y="76320"/>
            <a:ext cx="32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a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iwi frui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182200" y="350532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a </a:t>
            </a:r>
            <a:r>
              <a:rPr b="0" lang="zh-CN" sz="54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apay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2666880" y="1143000"/>
          <a:ext cx="221004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143000"/>
                    <a:ext cx="221004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7" descr="coconut"/>
          <p:cNvPicPr/>
          <p:nvPr/>
        </p:nvPicPr>
        <p:blipFill>
          <a:blip r:embed="rId3"/>
          <a:stretch/>
        </p:blipFill>
        <p:spPr>
          <a:xfrm>
            <a:off x="838080" y="4495680"/>
            <a:ext cx="3095640" cy="2105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pawpaw"/>
          <p:cNvPicPr/>
          <p:nvPr/>
        </p:nvPicPr>
        <p:blipFill>
          <a:blip r:embed="rId4"/>
          <a:stretch/>
        </p:blipFill>
        <p:spPr>
          <a:xfrm>
            <a:off x="4648320" y="4572000"/>
            <a:ext cx="3429000" cy="20955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432360" y="3784680"/>
            <a:ext cx="31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a </a:t>
            </a:r>
            <a:r>
              <a:rPr b="0" lang="zh-CN" sz="5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zh-CN" sz="5400" spc="-1" strike="noStrike">
                <a:solidFill>
                  <a:srgbClr val="009999"/>
                </a:solidFill>
                <a:latin typeface="Arial"/>
              </a:rPr>
              <a:t>oco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nu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096600" y="68580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rap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11" descr="grape"/>
          <p:cNvPicPr/>
          <p:nvPr/>
        </p:nvPicPr>
        <p:blipFill>
          <a:blip r:embed="rId5"/>
          <a:srcRect l="0" t="0" r="0" b="7915"/>
          <a:stretch/>
        </p:blipFill>
        <p:spPr>
          <a:xfrm>
            <a:off x="5562720" y="1600200"/>
            <a:ext cx="2209680" cy="2035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6"/>
          <a:srcRect l="57710" t="19863" r="5848" b="22125"/>
          <a:stretch/>
        </p:blipFill>
        <p:spPr>
          <a:xfrm>
            <a:off x="304920" y="1219320"/>
            <a:ext cx="213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539640" y="1844640"/>
            <a:ext cx="763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6877080" y="117360"/>
            <a:ext cx="431640" cy="432000"/>
          </a:xfrm>
          <a:custGeom>
            <a:avLst/>
            <a:gdLst>
              <a:gd name="textAreaLeft" fmla="*/ 133200 w 431640"/>
              <a:gd name="textAreaRight" fmla="*/ 298440 w 43164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lnTo>
                  <a:pt x="0" y="16493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451640" y="189000"/>
            <a:ext cx="432000" cy="43164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4880 h 431640"/>
              <a:gd name="textAreaBottom" fmla="*/ 329760 h 43164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lnTo>
                  <a:pt x="0" y="16493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8101080" y="117360"/>
            <a:ext cx="431640" cy="432000"/>
          </a:xfrm>
          <a:custGeom>
            <a:avLst/>
            <a:gdLst>
              <a:gd name="textAreaLeft" fmla="*/ 133200 w 431640"/>
              <a:gd name="textAreaRight" fmla="*/ 298440 w 43164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lnTo>
                  <a:pt x="0" y="16493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826920" y="57340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6372360" y="44280"/>
            <a:ext cx="431640" cy="505080"/>
          </a:xfrm>
          <a:custGeom>
            <a:avLst/>
            <a:gdLst>
              <a:gd name="textAreaLeft" fmla="*/ 133200 w 431640"/>
              <a:gd name="textAreaRight" fmla="*/ 298440 w 43164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431800" h="504825">
                <a:moveTo>
                  <a:pt x="0" y="192825"/>
                </a:moveTo>
                <a:lnTo>
                  <a:pt x="164934" y="192827"/>
                </a:lnTo>
                <a:lnTo>
                  <a:pt x="215900" y="0"/>
                </a:lnTo>
                <a:lnTo>
                  <a:pt x="266866" y="192827"/>
                </a:lnTo>
                <a:lnTo>
                  <a:pt x="431800" y="192825"/>
                </a:lnTo>
                <a:lnTo>
                  <a:pt x="298365" y="311997"/>
                </a:lnTo>
                <a:lnTo>
                  <a:pt x="349334" y="504823"/>
                </a:lnTo>
                <a:lnTo>
                  <a:pt x="215900" y="385649"/>
                </a:lnTo>
                <a:lnTo>
                  <a:pt x="82466" y="504823"/>
                </a:lnTo>
                <a:lnTo>
                  <a:pt x="133435" y="311997"/>
                </a:lnTo>
                <a:lnTo>
                  <a:pt x="0" y="192825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6320" y="6094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Game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cc"/>
                </a:solidFill>
                <a:latin typeface="Arial"/>
              </a:rPr>
              <a:t>What's thi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cc"/>
                </a:solidFill>
                <a:latin typeface="Arial"/>
              </a:rPr>
              <a:t>This is a ....(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nut</a:t>
            </a:r>
            <a:r>
              <a:rPr b="1" lang="zh-CN" sz="6600" spc="-1" strike="noStrike">
                <a:solidFill>
                  <a:srgbClr val="9900cc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24000" y="429264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ice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066680" y="1752480"/>
            <a:ext cx="612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Comic Sans MS"/>
              </a:rPr>
              <a:t>Which fruit are sweet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</a:rPr>
              <a:t>那些水果是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甜</a:t>
            </a:r>
            <a:r>
              <a:rPr b="0" lang="zh-CN" sz="5400" spc="-1" strike="noStrike">
                <a:solidFill>
                  <a:srgbClr val="ff0000"/>
                </a:solidFill>
                <a:latin typeface="Comic Sans MS"/>
              </a:rPr>
              <a:t>的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0"/>
            <a:ext cx="924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’s your favourite fruit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like …….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3" descr="grape"/>
          <p:cNvPicPr/>
          <p:nvPr/>
        </p:nvPicPr>
        <p:blipFill>
          <a:blip r:embed="rId1"/>
          <a:srcRect l="0" t="0" r="0" b="8506"/>
          <a:stretch/>
        </p:blipFill>
        <p:spPr>
          <a:xfrm>
            <a:off x="324000" y="2276640"/>
            <a:ext cx="1260360" cy="115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coconut"/>
          <p:cNvPicPr/>
          <p:nvPr/>
        </p:nvPicPr>
        <p:blipFill>
          <a:blip r:embed="rId2"/>
          <a:stretch/>
        </p:blipFill>
        <p:spPr>
          <a:xfrm>
            <a:off x="250920" y="5535720"/>
            <a:ext cx="1944720" cy="132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mango-1"/>
          <p:cNvPicPr/>
          <p:nvPr/>
        </p:nvPicPr>
        <p:blipFill>
          <a:blip r:embed="rId3"/>
          <a:stretch/>
        </p:blipFill>
        <p:spPr>
          <a:xfrm>
            <a:off x="324000" y="3645000"/>
            <a:ext cx="165708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Object 6"/>
          <p:cNvGraphicFramePr/>
          <p:nvPr/>
        </p:nvGraphicFramePr>
        <p:xfrm>
          <a:off x="2700360" y="1989000"/>
          <a:ext cx="1824120" cy="172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1989000"/>
                    <a:ext cx="182412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5219640" y="1484280"/>
          <a:ext cx="1647720" cy="174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19640" y="1484280"/>
                    <a:ext cx="164772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8"/>
          <p:cNvGraphicFramePr/>
          <p:nvPr/>
        </p:nvGraphicFramePr>
        <p:xfrm>
          <a:off x="2556000" y="3789360"/>
          <a:ext cx="1584360" cy="158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3789360"/>
                    <a:ext cx="15843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9"/>
          <p:cNvGraphicFramePr/>
          <p:nvPr/>
        </p:nvGraphicFramePr>
        <p:xfrm>
          <a:off x="5003640" y="3357720"/>
          <a:ext cx="1225800" cy="1803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03640" y="3357720"/>
                    <a:ext cx="122580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0"/>
          <p:cNvGraphicFramePr/>
          <p:nvPr/>
        </p:nvGraphicFramePr>
        <p:xfrm>
          <a:off x="7093080" y="1341360"/>
          <a:ext cx="1728720" cy="17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4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93080" y="1341360"/>
                    <a:ext cx="172872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1"/>
          <p:cNvGraphicFramePr/>
          <p:nvPr/>
        </p:nvGraphicFramePr>
        <p:xfrm>
          <a:off x="7236000" y="3284640"/>
          <a:ext cx="1595160" cy="1854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236000" y="3284640"/>
                    <a:ext cx="159516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2"/>
          <p:cNvGraphicFramePr/>
          <p:nvPr/>
        </p:nvGraphicFramePr>
        <p:xfrm>
          <a:off x="4067280" y="5373720"/>
          <a:ext cx="1428480" cy="1484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067280" y="5373720"/>
                    <a:ext cx="142848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3"/>
          <p:cNvGraphicFramePr/>
          <p:nvPr/>
        </p:nvGraphicFramePr>
        <p:xfrm>
          <a:off x="6227640" y="5300640"/>
          <a:ext cx="1459080" cy="1557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0" name="Object 1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227640" y="5300640"/>
                    <a:ext cx="145908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0:10:21Z</dcterms:created>
  <dc:creator> </dc:creator>
  <dc:description> </dc:description>
  <cp:keywords/>
  <dc:language>en-US</dc:language>
  <cp:lastModifiedBy>Win7</cp:lastModifiedBy>
  <dcterms:modified xsi:type="dcterms:W3CDTF">2017-12-10T11:28:46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  <property fmtid="{D5CDD505-2E9C-101B-9397-08002B2CF9AE}" pid="3" name="Version">
    <vt:r8>1</vt:r8>
  </property>
</Properties>
</file>